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2.wmf" ContentType="image/x-wmf"/>
  <Override PartName="/ppt/media/image20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526716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863720" y="514440"/>
            <a:ext cx="14875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526716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6DB-1F9C-4BFD-A731-36E350245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move to this building all of our location fields changed for hte artifact collection; doing an inventory; opportunity to update to Dublin Core and photograph all objects for online vie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move to this building all of our location fields changed for hte artifact collection; doing an inventory; opportunity to update to Dublin Core and photograph all objects for online vie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ization efforts unde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approach to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ublin Core for metadata guidelines for all of the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naming conventions so files can be Goo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working with DB Textworks/Inmagic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photo collection MOAC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 for online access to a archival collection; notes, memos, schematic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limits of Inma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finding aid/search guid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some lofty go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 be the premier physical and virtual destination for computing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o have the best and most accessible collection of computing history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o have educational and engaging exhibits and programs that communicate and celebrate the computing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move to this building all of our location fields changed for hte artifact collection; doing an inventory; opportunity to update to Dublin Core and photograph all objects for online vie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ization efforts unde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approach to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ublin Core for metadata guidelines for all of the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naming conventions so files can be Goo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working with DB Textworks/Inmagic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photo collection MOAC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ization efforts unde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approach to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ublin Core for metadata guidelines for all of the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naming conventions so files can be Goo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working with DB Textworks/Inmagic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photo collection MOAC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some lofty go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 be the premier physical and virtual destination for computing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o have the best and most accessible collection of computing history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o have educational and engaging exhibits and programs that communicate and celebrate the computing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some lofty go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 be the premier physical and virtual destination for computing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o have the best and most accessible collection of computing history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o have educational and engaging exhibits and programs that communicate and celebrate the computing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some lofty go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 be the premier physical and virtual destination for computing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o have the best and most accessible collection of computing history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o have educational and engaging exhibits and programs that communicate and celebrate the computing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layer represents those digital assets we might convert or acqui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collected, the raw material can be made available to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on of the CyberMuseum is to organize this material to tell the story of computing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so important to provide advanced methods of organizing the material for better research and exhib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865160" y="514440"/>
            <a:ext cx="1487520" cy="1116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549080" y="1742760"/>
            <a:ext cx="6816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ization efforts unde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approach to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ublin Core for metadata guidelines for all of the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naming conventions so files can be Goo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working with DB Textworks/Inmagic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photo collection MOAC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0AE9-B2D4-48C4-8FC0-AA85C1DDC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7254-C3B2-4142-B078-263751F0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46E6-8FE1-4A85-9DC4-B095064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562F-7CA8-4587-BA09-57F798DDC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8AE0-11B6-4350-8DEF-5C6BD4DE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FDF1-104E-48F3-B7CC-529AD94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E4DF-2722-4CC2-8E79-3A7AF0FE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6F61-010E-4D77-AD19-E2A448EB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84E0-BEC5-4E7A-B8CB-CB4436D5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1355-8D1D-4F7B-B06A-B61DDCD9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2766-834C-4240-993F-C042C37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F0DE-DE14-4F71-BAFA-AA1C9605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2D0-15BF-47B6-AE2F-DD5BEE1F9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19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81880" y="6019920"/>
            <a:ext cx="563760" cy="636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omputerhistory.org/collections/search_the_collection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mputerhistory.org/cybermuseum/brochures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taging.computerhistory.org/cybermuseum/corphist/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collections.sfmoma.org/kiosk/advanced_search.htm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getty.edu/art/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pem.org/artscape/index.php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yber Collection </a:t>
            </a:r>
            <a:br>
              <a:rPr sz="4000"/>
            </a:br>
            <a:r>
              <a:rPr b="0" lang="en-US" sz="2800" spc="-1" strike="noStrike">
                <a:solidFill>
                  <a:srgbClr val="b2b2b2"/>
                </a:solidFill>
                <a:latin typeface="Franklin Gothic Medium"/>
              </a:rPr>
              <a:t>Status &amp; Vision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b2b2b2"/>
                </a:solidFill>
                <a:latin typeface="Franklin Gothic Book"/>
              </a:rPr>
              <a:t>March 16, 2005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Franklin Gothic Book"/>
              </a:rPr>
              <a:t>Kirsten Tashev</a:t>
            </a:r>
            <a:br>
              <a:rPr sz="2400"/>
            </a:br>
            <a:endParaRPr b="1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Search/Acces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371600"/>
            <a:ext cx="6400800" cy="48006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4038480"/>
            <a:ext cx="1600200" cy="198144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752480"/>
            <a:ext cx="1676160" cy="186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ile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895480"/>
            <a:ext cx="1371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Webdings"/>
                <a:ea typeface="Webdings"/>
              </a:rPr>
              <a:t>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057400"/>
            <a:ext cx="2057400" cy="838080"/>
          </a:xfrm>
          <a:custGeom>
            <a:avLst/>
            <a:gdLst/>
            <a:ahLst/>
            <a:rect l="l" t="t" r="r" b="b"/>
            <a:pathLst>
              <a:path w="1080" h="1260">
                <a:moveTo>
                  <a:pt x="1080" y="1260"/>
                </a:moveTo>
                <a:lnTo>
                  <a:pt x="1080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876480" y="4048200"/>
            <a:ext cx="857160" cy="2057400"/>
          </a:xfrm>
          <a:custGeom>
            <a:avLst/>
            <a:gdLst/>
            <a:ahLst/>
            <a:rect l="l" t="t" r="r" b="b"/>
            <a:pathLst>
              <a:path w="1080" h="1260">
                <a:moveTo>
                  <a:pt x="1080" y="1260"/>
                </a:moveTo>
                <a:lnTo>
                  <a:pt x="1080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67360" y="4267080"/>
            <a:ext cx="5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atabase Spec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Inmagic – “Textbase” with O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lient Server Windows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ulti-User collection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ibrary centric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mple tabl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on-rela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ommon shared fields (Dublin Core) between col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Integrated simple Web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Upgrade to SQL version Summer ‘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Web bas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Relational structures for exhi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ies many collections and record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Used to build thematic tools and organiz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HM Collection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2362320"/>
            <a:ext cx="327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Phot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anklin Gothic Medium"/>
                <a:ea typeface="Times New Roman"/>
              </a:rPr>
              <a:t>Moving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Franklin Gothic Medium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Artifact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81680" y="2590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1670040"/>
            <a:ext cx="289548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ccess to 1,000 artifact images by Jul ’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3,000 objects inventoried and photographed to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ive access to database launched in Fall ‘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4191120" cy="321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Artifact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54380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Artifact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066680"/>
            <a:ext cx="6248520" cy="553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Photograph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517760"/>
            <a:ext cx="5410080" cy="4064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600200" y="-57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469880"/>
            <a:ext cx="228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ototype online access to all 1,000 scanned images in March ‘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1000 images catalog and sc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ocuments – Project ‘Stretch’ 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960720" cy="464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7299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697040"/>
            <a:ext cx="3733560" cy="61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rototype online access to document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aunched in Summer ‘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uratorial layer improves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ocuments – Stretch 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99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0102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ocuments – Stretch 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99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82752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352680" cy="26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09880" y="449568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yber Collection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952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752480"/>
            <a:ext cx="327672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o be the premier international physical and virtual destination for computing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343400" cy="289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ocuments – 200 Brochur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6280"/>
            <a:ext cx="4800600" cy="411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5257800" y="1297080"/>
            <a:ext cx="365760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reate standard tools and training materials for cataloguing and sc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rototype an improved web interface, including curatori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aunch Jul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raining materials/equip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 interns/3 volunteers t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taloguing/scanning unde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ocument Survey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5920" y="958680"/>
          <a:ext cx="9028080" cy="585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958680"/>
                    <a:ext cx="9028080" cy="58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ocument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59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urve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867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otal linear feet: 3,794 (approx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f = linear feet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905120"/>
          <a:ext cx="8001000" cy="3612960"/>
        </p:xfrm>
        <a:graphic>
          <a:graphicData uri="http://schemas.openxmlformats.org/drawingml/2006/table">
            <a:tbl>
              <a:tblPr/>
              <a:tblGrid>
                <a:gridCol w="2466720"/>
                <a:gridCol w="1497240"/>
                <a:gridCol w="1869840"/>
                <a:gridCol w="2167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 Unicode MS"/>
                        </a:rPr>
                        <a:t>Qua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Arial Unicode MS"/>
                        </a:rPr>
                        <a:t>Percent Destru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Online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5080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oks (ISB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000 (83 l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em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are B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 (17 l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anuals/Tech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000 (167 l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em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eriodic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 linear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em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ference Proceed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 linear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em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arketing Broch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 linear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chival/Business Pa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0 linear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inding aid/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hema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 linear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Moving Imag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-57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1816200"/>
            <a:ext cx="304776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atalog entire collection, digitize 50 historic films and stream all oral histories by June ‘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egacy Filemaker database converted to Inmagic (not comple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14964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Softwar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-57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403280"/>
            <a:ext cx="32004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atalog entire coll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y Fall ‘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ranscode 20% by Jun ’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velop prototype user contributed archive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Jun ‘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raft Data-diction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nd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648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yber Collection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12952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49440" y="1012320"/>
            <a:ext cx="5689080" cy="5026680"/>
            <a:chOff x="1549440" y="1012320"/>
            <a:chExt cx="5689080" cy="5026680"/>
          </a:xfrm>
        </p:grpSpPr>
        <p:sp>
          <p:nvSpPr>
            <p:cNvPr id="149" name="_s349191"/>
            <p:cNvSpPr/>
            <p:nvPr/>
          </p:nvSpPr>
          <p:spPr>
            <a:xfrm>
              <a:off x="3117960" y="1905840"/>
              <a:ext cx="2551680" cy="2553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349192"/>
            <p:cNvSpPr/>
            <p:nvPr/>
          </p:nvSpPr>
          <p:spPr>
            <a:xfrm>
              <a:off x="4053960" y="101232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Collec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349193"/>
            <p:cNvSpPr/>
            <p:nvPr/>
          </p:nvSpPr>
          <p:spPr>
            <a:xfrm>
              <a:off x="3957480" y="3360960"/>
              <a:ext cx="2552400" cy="25531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349194"/>
            <p:cNvSpPr/>
            <p:nvPr/>
          </p:nvSpPr>
          <p:spPr>
            <a:xfrm>
              <a:off x="6558120" y="540108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Communit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_s349195"/>
            <p:cNvSpPr/>
            <p:nvPr/>
          </p:nvSpPr>
          <p:spPr>
            <a:xfrm>
              <a:off x="2275560" y="3358440"/>
              <a:ext cx="2552400" cy="255240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349196"/>
            <p:cNvSpPr/>
            <p:nvPr/>
          </p:nvSpPr>
          <p:spPr>
            <a:xfrm>
              <a:off x="1549440" y="540108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Exhibi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657600" y="36576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yber Muse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Exhibition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nline display of our viewable collection in Visible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238880" cy="24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09880" y="1143000"/>
            <a:ext cx="4114800" cy="263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Exhibition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86040" y="175248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History of Chess Software Online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Go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o create a complementary online exhibit which provides access to additional exhibit content as well as related original sourc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4960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yber Collection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12952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49440" y="1012320"/>
            <a:ext cx="5689080" cy="5026680"/>
            <a:chOff x="1549440" y="1012320"/>
            <a:chExt cx="5689080" cy="5026680"/>
          </a:xfrm>
        </p:grpSpPr>
        <p:sp>
          <p:nvSpPr>
            <p:cNvPr id="167" name="_s351239"/>
            <p:cNvSpPr/>
            <p:nvPr/>
          </p:nvSpPr>
          <p:spPr>
            <a:xfrm>
              <a:off x="3117960" y="1905840"/>
              <a:ext cx="2551680" cy="25531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351240"/>
            <p:cNvSpPr/>
            <p:nvPr/>
          </p:nvSpPr>
          <p:spPr>
            <a:xfrm>
              <a:off x="4053960" y="101232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Collec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351241"/>
            <p:cNvSpPr/>
            <p:nvPr/>
          </p:nvSpPr>
          <p:spPr>
            <a:xfrm>
              <a:off x="3957480" y="3360960"/>
              <a:ext cx="2552400" cy="2553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351242"/>
            <p:cNvSpPr/>
            <p:nvPr/>
          </p:nvSpPr>
          <p:spPr>
            <a:xfrm>
              <a:off x="6558120" y="540108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Communit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_s351243"/>
            <p:cNvSpPr/>
            <p:nvPr/>
          </p:nvSpPr>
          <p:spPr>
            <a:xfrm>
              <a:off x="2275560" y="3358440"/>
              <a:ext cx="2552400" cy="25524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351244"/>
            <p:cNvSpPr/>
            <p:nvPr/>
          </p:nvSpPr>
          <p:spPr>
            <a:xfrm>
              <a:off x="1549440" y="540108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Exhibi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36576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yber Muse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orporate Histories Projec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38680" y="1447560"/>
            <a:ext cx="3276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torytelling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calable and flexible back en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uilding general purpose tool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85800"/>
            <a:ext cx="44960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yber Collection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2952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49440" y="1012320"/>
            <a:ext cx="5689080" cy="5026680"/>
            <a:chOff x="1549440" y="1012320"/>
            <a:chExt cx="5689080" cy="5026680"/>
          </a:xfrm>
        </p:grpSpPr>
        <p:sp>
          <p:nvSpPr>
            <p:cNvPr id="61" name="_s337933"/>
            <p:cNvSpPr/>
            <p:nvPr/>
          </p:nvSpPr>
          <p:spPr>
            <a:xfrm>
              <a:off x="3117960" y="1905840"/>
              <a:ext cx="2551680" cy="2553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337934"/>
            <p:cNvSpPr/>
            <p:nvPr/>
          </p:nvSpPr>
          <p:spPr>
            <a:xfrm>
              <a:off x="4053960" y="101232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Collec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337935"/>
            <p:cNvSpPr/>
            <p:nvPr/>
          </p:nvSpPr>
          <p:spPr>
            <a:xfrm>
              <a:off x="3957480" y="3360960"/>
              <a:ext cx="2552400" cy="25531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337936"/>
            <p:cNvSpPr/>
            <p:nvPr/>
          </p:nvSpPr>
          <p:spPr>
            <a:xfrm>
              <a:off x="6558120" y="540108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Communit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337937"/>
            <p:cNvSpPr/>
            <p:nvPr/>
          </p:nvSpPr>
          <p:spPr>
            <a:xfrm>
              <a:off x="2275560" y="3358440"/>
              <a:ext cx="2552400" cy="25524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337938"/>
            <p:cNvSpPr/>
            <p:nvPr/>
          </p:nvSpPr>
          <p:spPr>
            <a:xfrm>
              <a:off x="1549440" y="5401080"/>
              <a:ext cx="68040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Franklin Gothic Book"/>
                </a:rPr>
                <a:t>Exhibi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9840" y="365616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Cyber Muse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yberMuseum Data Model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390680"/>
          <a:ext cx="74674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90680"/>
                    <a:ext cx="74674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Book"/>
              </a:rPr>
              <a:t>CyberMuseum Hierarchy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9840" y="1295280"/>
          <a:ext cx="91504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1295280"/>
                    <a:ext cx="9150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Current Portal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047600"/>
            <a:ext cx="73152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Benchmark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828800"/>
            <a:ext cx="7159680" cy="3170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45680" y="5386320"/>
            <a:ext cx="644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SFM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ttp://collections.sfmoma.org/kiosk/advanced_search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Benchmark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295280"/>
            <a:ext cx="4572000" cy="436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6172200" y="2209680"/>
            <a:ext cx="2590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Getty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ww.getty.edu/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Benchmark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371600"/>
            <a:ext cx="5105520" cy="415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095880" y="2209680"/>
            <a:ext cx="28958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Peabody Essex Muse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ttp://www.pem.org/artscape/index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Back-end Research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1447920"/>
            <a:ext cx="335304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ttp://www.gallerysystem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38080" y="1549440"/>
            <a:ext cx="3722760" cy="408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Audienc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useum staff and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esearc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Hobby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rior art law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eachers/high schoo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General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Best Practic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stern States Digital Standard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alifornia Digital Library Museum &amp; Onli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alifornia State Library Scannin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illion Boo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ibrary of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a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all ‘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Standard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Dublin C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057400"/>
            <a:ext cx="365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Cre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Publis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Contribu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Resourc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In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Franklin Gothic Book"/>
                <a:ea typeface="Times New Roman"/>
              </a:rPr>
              <a:t>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733920"/>
            <a:ext cx="2971800" cy="2209680"/>
          </a:xfr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ex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Physical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Inter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2971800" cy="555840"/>
          </a:xfr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uthor, Designer, Photographer, Artist, Architect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895480"/>
            <a:ext cx="2971800" cy="381240"/>
          </a:xfr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Publisher, Manufacture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6248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mplemented Dec ‘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Database/Catalog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162920" cy="538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600200" y="-57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Standard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Cyber Collection is to provide access to the CHM Collection and not to create highly accurate reprod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paper will remain the archiv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 digitization of the document collection will minimize wear and tear, the primary goal is to provide access and legi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3794040"/>
          <a:ext cx="7467840" cy="2225520"/>
        </p:xfrm>
        <a:graphic>
          <a:graphicData uri="http://schemas.openxmlformats.org/drawingml/2006/table">
            <a:tbl>
              <a:tblPr/>
              <a:tblGrid>
                <a:gridCol w="2210040"/>
                <a:gridCol w="2743200"/>
                <a:gridCol w="2514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age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CHM Minimum (Interi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CHM Best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5080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Alphanumeric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3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3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andwritten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3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6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Schematic Draw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6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Illus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3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6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hotograp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3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6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762120" y="3352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ization Go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Franklin Gothic Medium"/>
              </a:rPr>
              <a:t>Asset Archiv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Archive Folder Structure by Resourc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till_imag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hotograph collection (tiff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ving_image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deo collection (dv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reference photos of artifacts (jpg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ext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ocument collection (pdf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ftware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ftware collection (exe. files and 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File Name Metadata – Google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[manufacturer].[machine or object name or person or event].[accession #].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c.pdp-1_printer.X126-84.jp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c.pdp-1.1964.102525403.src.jpg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c.pdp-1_bell_kotek.1964.102525404.sr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c.pdp-1.principals_of_operation.1964.102525403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6248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mplemented Dec ‘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59:29Z</dcterms:created>
  <dc:creator>jemccrimmon</dc:creator>
  <dc:description/>
  <dc:language>en-US</dc:language>
  <cp:lastModifiedBy>tashev</cp:lastModifiedBy>
  <dcterms:modified xsi:type="dcterms:W3CDTF">2005-03-17T23:35:01Z</dcterms:modified>
  <cp:revision>106</cp:revision>
  <dc:subject/>
  <dc:title>  “Where Computing History Lives”  January, 2003  John C. Toole Executive Director &amp; CEO toole@computerhistory.org 650-810-1000 </dc:title>
</cp:coreProperties>
</file>